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512-F86A-498B-905A-6CD4AF3D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156-9D2F-4802-AB68-AFC9565F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7A7-D71F-4A12-858B-A4340F37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682-44C8-453B-ABCC-08756E69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211-E114-4F3F-9376-476DF9F7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99F-9474-47B4-BD51-529FD262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78A-0347-4095-A6F2-102604CB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676-12AC-401E-B854-93E797F4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5F1-07DC-4EB1-A1D1-4D9423F2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3FB-F393-4336-9042-6C48282A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8E1-A6D9-48BA-8F03-0ADCB91E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619-3660-481A-BBE0-139FEC70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8888-BA92-4DD3-9F2C-263E707A6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«Моя мечта… професс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«Средняя школа №9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МР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ный час в 11 В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чанова Мари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21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6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Уровень притязаний на общественное признани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ируя свой трудовой путь, очень важно позаботиться о реалистичности своих притяз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7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Информированнос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о владеть  информацией о професс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60216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8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Склонност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будет успешен в той деятельности, которая ему по ду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46195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Позиция старших членов сем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озиция товарищей, подр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озиция учителей, школьных педаг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Личные профессиональные пл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Способ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Уровень притязаний на общественное при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Информирова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Скл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ичные ошибки при выборе 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знание мира професс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знание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знание правил выбора професс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"Правильный выбор профессии позволяет реализовать свой творческий потенциал, избежать разочарования, оградить себя и свою семью от нищеты и неуверенности в завтрашнем дне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иктор Гю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"Важно не то место, которое мы занимаем, а то направление, в котором мы движемс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Лев Толстой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товые разработ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«Тот, кто с детства знает, что труд есть закон жизни, кто смолоду понял, что хлеб добывается только в поте лица, тот способен к подвигу, потому что в нужный день и час у него найдётся воля его выполнить и силы для этого» (Жюль Вер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572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3240" y="685800"/>
            <a:ext cx="787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«Кем ты будешь, когда вырастешь?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озиция старших членов семьи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жой выбор часто бывает неудачен. Дети иногда идут по стопам родителей, в результате получаются династии врачей, учите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4788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2 фактор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озиция товарищей, подруг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ым будет решение, которое соответствует твоим интересам и совпадает с интересами общества, в котором ты живе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3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озиция учителей, школьных педагогов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ытный педагог знает много такого о тебе, что скрыто от непрофессиональных глаз и даже от теб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643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4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Личные профессиональные план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ПП –это то, чего человек хочет достичь и жизни и в профе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62440" y="1484280"/>
            <a:ext cx="38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 фактор Способ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ого, чтобы какое-либо дело получалось необходимы определённые способ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11640" y="1600200"/>
            <a:ext cx="4265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8:00:25Z</dcterms:created>
  <dc:creator>Comp</dc:creator>
  <dc:description/>
  <dc:language>en-US</dc:language>
  <cp:lastModifiedBy>Comp</cp:lastModifiedBy>
  <dcterms:modified xsi:type="dcterms:W3CDTF">2011-04-29T17:22:23Z</dcterms:modified>
  <cp:revision>4</cp:revision>
  <dc:subject/>
  <dc:title>Классный час «Моя мечта… профессия»</dc:title>
</cp:coreProperties>
</file>